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51D1-B517-4961-B14E-948764B35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FE06-7B11-48CA-9CEC-C867F2C9B3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57AE50-1A4E-4C98-BF1C-AF0AA97B91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E579A8-D526-4DEF-B478-70D1E80E44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0956B-6998-48C0-A8C5-3B716432AA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28B8B-7461-4269-987D-724CDEA32A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44651-39C8-463E-B685-B5A037A828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C50ED-0B6A-4668-B3AF-0C7C4EEF99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1C3EC-813F-401A-BBA2-CEA00B33D1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B1420-35FA-44E2-AD20-6089F132FD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3EC44-C798-4B14-AEEB-B78789A6DC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68BBB-9C00-4AC7-A27C-19F1A843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667A-7590-49E4-8F0B-516482973C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4BAEE-1A2D-4389-BD55-16078DB98A7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94B88-4A9C-4574-8E3C-5FAF7F02C9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C5B88-F1E8-4923-89AC-04E79E8C35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ACC59-68F9-4E3D-85F6-AEFC98F0C9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04881-E74A-42EA-903B-E576B2131F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0A98B-8A0F-47B4-94FD-3AF35EBA69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94F3F-2121-49F5-94EF-0796934248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0B1F6-27BE-4FF8-ADDE-62E1626D86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390C3-54F7-4E67-AEEA-DDF02FD197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E9BB2-9F89-4327-8191-D15C6F8B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5608-9E83-4198-BD48-572C7D60893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1AB6B-92AE-4E16-8B77-81ED787DF1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95FE-2D7A-46C5-8714-6B836D32A4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B8F7-6A5E-43F0-87FE-C705BC0ADC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55132-0274-455D-B2AB-00171CFDE2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A0CF-3068-4375-8E30-84B6F1E8568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FCF6-C50A-4ABB-AF80-4A34FABDB0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8452-AFAC-4623-A80D-5FFB10CB07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2C42-2A9E-4E5C-BAC0-9FFC10519A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CB61-57F9-49A3-831B-D03D90FE93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4E0ED-797C-4701-9342-DB8F5A531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A812-FE7D-45C3-96DD-FAFC4AC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50FC-4B67-4CFA-A53E-BAF8002B014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2B3EB-9DEE-4751-A55C-39F7855494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3927-8905-4173-97CB-46E8F6D4BD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3BEE5-0BB1-425A-817D-995E9C10A4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F86E8-1107-4788-961B-98A6CEB02E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9DF267-BEF3-425D-936F-680BCF8806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BDF87-8E29-4469-8AC9-3B3C4B94B3C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0200B-C4B3-4489-95B0-D35E8CA85B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1C95E7-C384-476D-97E4-6309C51A67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34712-5F3A-40ED-8F42-29294EC02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CC60D-3FF5-4933-948F-C34A810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40345B-0A2B-4BBB-89C8-E0E3888719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1107F-A2BF-4F4A-B904-9649E2C4AD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89A74-DACD-4DC4-B7EE-19F75FFF07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F88F9-FBF8-4EB4-ADD6-0814D31FB9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A335ED-C653-4AAD-9E1D-A49C08C5F8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3248A-12AB-43AF-8E40-CFE6DC5347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A0036-6E0C-47AF-95E1-8DB5F1EBF7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6464E-9E9A-4AF2-ADB9-2CD2173B3E0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47BC2-9816-46E3-A8B9-67277839AE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AEA02-7F4A-4404-BB3F-C340CF7E3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9577D-D642-4B88-A193-3453552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C22DD-2DAC-4499-96C2-8E3C39B3BE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1000F-CED5-41B7-AE91-C3726B7A37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5A4A5-87D6-4C66-9373-25A0E3FBB47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FCEC1-AA40-4650-9ADC-260A209A525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210CD-9821-484C-95C2-2B0A8E80CD5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243E1-916E-46F1-BE85-64BEC80E71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2858B-A6DF-4F9A-ACBF-BEE3F05F95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4560E-27C8-46FF-9F8E-D39E7AFF4F4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B8B0-2966-4F56-A72F-57D765B7A6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9EDA-CD34-45CC-AFB7-8A0E74213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45ED3-C9D3-4E3C-82AC-7D2505D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6E15D-121D-4AB8-B015-1AC0E51C40A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4BE8-552E-42A8-B710-D823DE6756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5E57-906E-44A1-96AA-D23FF733F7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4A2F-709C-42A0-B88A-62871482F9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1151-4D3C-4710-9D84-3DBAA9FB287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204F5-DA05-44EF-AF1F-52068FF3790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E677-5BDC-456F-B3C5-E14D4CCE010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2281F-7AF7-4371-905E-FCBB09F9A34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1C16-5F55-47DF-BB61-E1F41E4CBF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56F820-269B-4509-97D5-5D9E2A00A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1049-C611-4B77-AC00-86E98BF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6D5435-DBE0-491A-BC52-196EFEEC0BE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1B90C-3BD5-49FF-B9B6-A80291F0D9F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0A167-B9A5-4F9A-86C2-4138B86F19A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9E92F-C093-43F4-A79A-FD851BAEAE1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C9669-8FD0-46D4-B10F-3F5716D9E46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7ABB0-7011-40E5-B0BD-89493605D26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B3F86-E0C2-4618-B9B2-F19E1B8AEBF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E38B17-78FA-4E53-A137-BD89A528AEF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A51C4-9A91-40CC-B151-18F46AB5E85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B04094-3849-45A9-8DB1-8D762E3882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B0418-EF4D-40DC-A145-D487BAB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954B1-FB86-4D3E-8CD2-11512DC9E61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2B422-03BA-492E-B7E0-76AFCBB1D1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DE351-D5E3-49B2-A236-D225A4C3FFE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FDD04-F600-4410-A0D5-8C3E839DF3D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7FB41-D9C1-44D1-9073-71C0A1E1E2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05100-D99D-4703-A4E1-6063A7812D0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8B60F-BCBC-47EC-887A-2A53ADC0DD4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8AAA9-9E22-4963-8779-E1D9A3B2962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3B7E6-C4B6-424D-81B9-C3371164DF7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7B9B7-636C-4062-B551-6A8EF0433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C8785-0DD8-4D06-8431-E2424ED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3487A-8C1C-4590-B6CD-8C06E8CE151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195FF-8522-459B-8F77-DD0A4D17104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05CC0-F685-4711-98F6-BCF46F11E73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001DD-F201-4893-8F93-12F4F08E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F57F6-5802-4AAD-9733-B446C265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5835A-EC32-4E5E-981A-A4E3835F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038324-F7DA-4EE8-9C4E-9280A60E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CC3A5-E5A5-4CE4-A51C-5218092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18FDA-37A6-4061-AF35-25C28D8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C3C09-605C-48F1-932D-2C989A6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6222-24D1-4ADB-BC16-05EC8658E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E1F6D-2589-4E6A-9E3C-8F3D128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A9947-861F-43AB-B598-DC8DE0A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1849A-CCAE-4CE7-9255-5E1DA0F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964F3-E65D-471D-AFCE-402843B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EF084-2045-4361-9FD4-A87B421E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BA3DA-152B-4DC0-9874-D5ED0DC6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29FA2D-F6BB-4830-A9D2-07210AC8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EA874-0938-40ED-B416-2910D81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24AC77-1FF5-45AA-B267-F64CB58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F8D3D-A52B-4981-AA37-E7EAF0CC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7ABED7-C786-404C-9122-6BD502F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BCF5A-D265-44D2-ADEB-032C0A4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5781B-2882-4DE7-A6FC-A2CC80F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1CCE1B-A4EB-489C-ABF2-82ADA47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47458F-9857-450E-8B97-1BC82A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8E3AB-23D3-4122-BBCB-5BAB6D13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D91A0F-C65F-4552-9EE9-39A25B9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617D02-4EC7-4B6F-A13D-60C17C37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D7BC8-EE6C-44A3-9F91-3788425C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0041F-B947-4FE2-B1A1-8B54AB3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F26734-305E-4CDA-894B-F7D386E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CD4D0D-0684-401C-8645-F12B2E9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DF818-E60A-4038-A891-4FA96B7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03A4E-4B79-4607-9080-63DE0833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BF5CFE-35A4-46AB-99F0-BA698D55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0C8683-2D1E-4824-9210-ACE34327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3D00DB-AD01-44BD-BD6A-B7B2EF0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AE17C0-8564-4F68-8097-D955B4FF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A46121-6DE7-48C9-9953-25AADF4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2A4AC5-F708-4821-B800-FF26C4C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419B8-C0BA-4F81-B16E-694131DC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A6F3F-122A-491E-999D-99558D59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5A420-87C1-4508-8205-F67F4274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13AE-414F-47FC-9BD0-59F53054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0267EA-71D1-4BA7-A06C-E5E6FAB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E49803-FCBC-47F4-AA39-941B956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E90D36-D854-4973-BD6C-D364A66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A2CDD8-A889-4AA1-96E8-E7019B3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95ABBF-E0ED-40A9-988A-B1A11E8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252AB-B47E-4657-91E5-59E5BF5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7972E2-2840-4E2B-837B-2780F3F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B19CDB-0461-4225-A98D-999F0E4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765DA0-921F-46AF-80B7-7C1FD4C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BB3C2-8153-471E-9EAC-9E6D6527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5178-D8D5-4CB3-BA49-882A3DD5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EFF553-3E55-4E93-8D07-914C4DE4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A1BBD-4239-40F2-B0F6-0511D1AF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40D965-95C5-4A2D-B480-E5ECA4D4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DFDBB-7D73-4DDE-9FA5-3EACEAB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BADBF-B122-4669-9444-2DD8D031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5EBA8D-E4C0-4831-9AF5-BE1167C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EB0DA4-F7AA-4266-8522-08747C6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F38BBF-18CE-47D5-BBFB-9F3B4E5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F9E34E-4B4C-4F9A-8986-61A92C1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1E1491-89A0-4ED7-AC63-E9CCBC6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EA181-3619-4AB6-8F58-97A73926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3C748-C654-42CA-A194-EEE8715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03FA39-1E57-491F-A997-F8F74EDF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E25C6-67B1-4089-9386-54C4D186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722822-C469-4A79-909B-B9F20914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18F435-A9B1-42D7-AA68-9A98CFA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F8CDED-3FE9-492D-A75B-0029AAD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21B515-DD0C-4257-B8A8-063084E4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E1FFE1-F8FF-4BBE-BF5D-65812FD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628E93-E1DA-4D47-BAD1-74AC5C2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F239C0-8AB9-4916-896A-1700D1D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0AB12-D848-4B72-81DA-19ED877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2E5CAC-473B-45A8-A12F-FDCE06F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E61D2D-7C91-40F3-BF09-7DB7196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1E8149-92C1-436E-A224-E21AB542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1E18F-415B-4353-94D6-63713758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05D777-7885-4B92-8DAD-87F045F6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2F2C68-CE8C-44C1-93E4-36CEBD83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02372A-F4FF-46AD-89B6-649553BE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121D4-BFED-4247-A5EC-1628F84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82A067-44CD-4ED7-9062-2DF8D56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B9B424-FAC2-40BB-83C3-C7591F4D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3ECC6-0501-4137-BC36-D8E6E4F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4DBB15-4D86-483B-82D8-9C7DED5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1FB242-00F9-489F-B287-D21B572A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FADA7E-E023-49E3-A319-40226C2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23CB5E-894A-4E03-A464-31FC900E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781820-A0DD-4E0C-9DCC-D439C55C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702202-5D52-4DC6-A83A-D74EFD8C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FB7A22-DF68-4249-943F-D7F6E6A3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772EA6-71BB-4284-96A0-A48A51F1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6794C8-0825-4A1E-B8D3-B55A44C0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8458A1-4DB3-44B2-BBB9-6DB2870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A0AE4-7B12-4099-8FE8-FA04E15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2F2DAF-82DE-4AC1-987B-35BA8D43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E1D49F-EEDD-4CB7-8DF5-E64EBCE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E64AA4-747F-4A66-99B5-E5AB9FEA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3D810-6BF5-4772-94AC-E4236B0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845455-26FD-44CA-AAB2-06F6157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DB3562-0F5E-44C9-9666-DAE3922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2A0051-D530-44B5-8A9F-DFFD879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A8AD06-8406-4297-B1D9-D1A5F403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27794D-B78E-41D7-8B45-CBB879F2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516958-B4C9-4E6C-8CB7-9DDB1E95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8CB8E-7902-4AB2-A9C0-B9CC36B3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523526-1836-41A2-A5EE-E49E95D6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9AD880-14C9-417D-B220-AA8DEA2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B40021-DFF0-4F70-8949-28F86EC4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D73724-4EC0-4016-845F-F7F1CFC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E4EBB6-0E7A-48CC-9D97-5CEF3D8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E18ED8-7113-4743-9B35-27412EB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AA819E-F8CB-4D91-8AF8-EAF4BDA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96107C-C1F9-45BA-9026-C3818B1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8BC88B-860F-478C-884D-9796AF18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ADD0C5-A1AA-4A26-8EB5-C6E8347D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642A-06AF-42AF-9250-696384779E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5ED3A-6A75-4130-9182-91AAA44D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72C0EE-082A-45C7-94F4-E9F90A5F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8CE4F6-4CF3-4DF3-8D04-8C7BA4C9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E54698-5FDF-4962-AE0E-8C34AD85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6F2602-4A82-4DF9-8A72-6D84F79E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E84D52-1530-4125-B9A3-BFA3C5EB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355CCF-6D80-4A69-8BAE-45DDD91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6BB2C3-30B6-4E86-821B-B930258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1C471B-0845-46A7-865F-50A1D851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DC4DF6-391E-432C-B82A-A45113B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6624C1-32EA-4331-8F6A-ED7D950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BB357-D8E8-482E-BE0E-88ACEEA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2B479B-7BF3-45E5-9B75-EB34239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943A19-7E9C-4609-87F0-6F6AEAAF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1B18779-58D8-45F2-9B86-7F77F64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E9A03B-FDC2-4116-B7FA-E587AF15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03929F-7C3D-413C-912D-BC734F1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7A998A-DFCF-409F-8E4C-D82C569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8143A4-34ED-4D58-A7D4-6561661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CA4372-39DE-4D38-8464-DF3070A9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BECEE4-D53D-4946-B691-DE0132B7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08E749-23EC-4B56-B245-AB2A345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073D1-5BDA-4EEC-9EF5-B090211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DA460F-076E-40A7-8C5D-8F11229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38EF3C-BFFB-4427-8F7E-2C825F4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3EBECE-8958-499F-8B4C-D3BB59D7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94FD8C-F53A-48C8-9288-DACE5458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680C91-59F2-4E82-B40C-28CCEE3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52DD0C-893E-4527-AAF0-B868046F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1211C6-C2DD-4B63-98E1-6B3ED9AB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92B66F-FCE8-49F2-A59C-26B2FFC8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D10208-C360-48A2-B419-7F75377D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852B19-8B24-43F1-AAA7-BC852993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DEAFB-471C-488B-A065-68F52C7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34B2A6-2FF8-4CCD-A54D-3292612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C46844-A093-477A-B0AE-77CEADA2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D6FE10-079C-4562-987A-DF0D0E7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539DC9-8862-4017-BADA-E1FF6A8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BC805A-1E93-490F-93CE-9FAFB06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79A1D8-446F-485E-A0CD-7D41D28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938BD9-B7C1-4EA8-824F-DBA82310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0D4C49-8C87-48B3-BA1C-A9774DFE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4CEDF1-56B7-4C7B-B451-05FC5A6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07E70D-5997-4583-B73F-6212F3F4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C33DB-8035-4F42-A933-3178BC0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2B017B-4293-4673-887D-2728F46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D444E0-500C-4869-82D6-DA4CE31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8124AB-8D57-46B8-A4F5-9FD80F75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5F9D4B-1A94-475F-8C8D-4878DA5C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269AEF-D5FF-4433-B011-BEBD21C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60BCDE-A418-49E2-8606-9EB2611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78C754-A0E6-48D7-9D2B-08E0D91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696882-5306-4718-92E1-1DBBADF7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AC943E-3A76-4DCB-B54D-2F1CFA56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D9770E-3A23-4339-917E-41AE37B9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B7BD6-B788-414F-AA0A-FB75AAF2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B2E6F8-BA66-45FD-9E66-D52C575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80B64C-1DD8-497B-9F59-B444CAB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FC907F-31B8-4EC5-A6B3-96B11E1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832DC5-ED7E-43C4-B91C-5947D8F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422A5F-499D-4BEA-83FC-85E8638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756D3D-5F78-4248-874A-B35A7CE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CF152E-4D98-4607-BE54-25DA861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113B4A-6B14-47FF-829C-41E3D8F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F2D258-55BA-430E-8606-821DD393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446859-FD2B-4594-A1D9-4FBA679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26186-AC50-4333-AE7E-A166E258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D15FC9-3202-4CC2-8899-F8CBD81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E65959-1925-4043-A805-32B5FD3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C47F1A-8A9E-4D36-BE2F-73769DE6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B93527-EF26-4E21-BEF7-7F16C33A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FFDCEA-9AC3-4343-8C5B-71FB499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B1BA1F-4694-4334-9DAA-7D9DB2D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98E133-22EC-4E7D-B735-AF87197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F9805B-113A-4ADC-BE73-3349E8D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3CB783-721C-4769-944C-CE8BCD0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98755B-BE65-4000-911D-76660DF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CBC0-DF39-4BC3-A882-E961B7992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E96D7C-489F-4ED8-98EE-E7F633B1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22B607-02F6-418A-9455-55E7A8F0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0E3731-60FB-47D6-9F93-E8767F88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26AB64-E923-4D10-95F5-8C93F768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4E64A6-14E2-4ED6-8009-406CDF6F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E60BDA-40F9-490C-A129-29BCE305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01F6B2-9A99-47E1-8AC8-E17D33D5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9D10F1-BDD5-44AC-ADF7-E5949A0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A691C0-098C-4468-A3C6-CA96BB5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72A36B-297F-40A7-8EFD-529D04A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4849-AE90-44D5-AA48-D598642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4F8A36-90BE-47BB-84A6-EBB9171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5AFA3A-87BA-40CD-B841-FA530DB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73FA7B-D37C-4677-AA2A-F7190C8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3E5648-2E84-4654-B8AA-DB343B00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499B78-2599-455B-A089-2845DD5E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52C59F-9358-4527-889F-1451FFE7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760385-D9F7-43E6-8128-7E6BD1F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20B426-1F75-43D2-8B4B-3B7A59B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526F43-046B-4A11-B9B0-90504AE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9141F5-4A1C-4DA6-9CCD-E1014BF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4901-0691-4377-A84A-8E4C268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E58750-8D3B-47B2-92F6-2C17AADD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096E32-F495-43E1-907F-A05F1B4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A236A9-F05B-4150-9291-79BD837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F8AD4A-4DC7-4B78-91D4-C0BCD6B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BF6E23-1784-4F89-86F5-3BEE798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8E1F05-A2EB-44C8-987B-6DB96854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C761E3-10A0-4E94-BB9A-4FBE1989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8DD909-9E0E-46D1-9BC4-E15B94B9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D1E54B5-5B83-4F65-9F80-C8FB16C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D892E1E-6675-4A8B-927F-7D75CF45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94E1-B761-4D3E-8E04-096AA3E91B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4671-0FE0-4D28-872A-7233A2A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9BD71C0-42DC-447E-B5D9-3C9BA7F2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77FBC4-7DE9-406E-911E-ABD79695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228DDA3-3CD7-408A-BFC6-D35DA435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99E5D4-57DE-43B6-9C22-0287DFE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D3047C-5B99-4D0E-9FDD-D157014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F069F1-E988-400A-A86A-3B10B9E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701AC0-7227-45FF-9F6A-08E83132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3468E08-BA80-41D3-B360-10B8ACAF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E0799A-E815-4ECB-B78C-05C7F9D5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621F6C9-8A46-40F0-81AA-780E0B29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EE8E-E9FE-4444-935F-7807405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47C595-6FE4-4F77-A457-FA8B87D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E1B71E-3083-42CE-8B8E-9349BEE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5818FC-8A60-458C-9C5A-80E917C4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BC97499-30F1-4A19-8619-2F264F7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53841E-E11D-437A-9E66-2984DE8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9486D8-EA2C-4C22-B9F5-8F80E06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C850E2E-F5C2-4BF5-A00B-1AAC154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8BD248-DB3F-41C2-A478-51C16BC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7433390-1656-4BFF-BD5F-5AC1DCE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A4D7956-0C8C-4CAD-879F-EE947F96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1514-85EF-4E1A-98B5-1B0637BB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A15FB8-B11C-4246-93D8-6901835E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5AF402-08AF-4507-9C0E-CA7796FC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0C21E4A-9B39-4EC0-A5C5-00176C3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44E7CB0-AC40-4889-B682-2F9FBE6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8AECCF5-6DE9-4357-B3F9-2E226C3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BB4810-91F2-4145-9778-B6C42028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457E6A-3E0E-4372-AF14-CAE2B583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F5AB1A-DABD-4E07-8920-12E57B9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E12988C-67BF-419F-8F4E-0C8C5B2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1FA683-3991-4F79-9750-E8B8B8A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E9CD-8CEA-4548-BDED-FB8939D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3FEB13-93B2-4BFF-AE2A-BFC8B50A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2DADC5-7558-4927-B714-633A4D61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1101705-80DE-4EF7-A5F5-2BD996DE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05AF58-1728-4B76-9EBC-734D7BC9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67C51E-4128-4993-800D-5734EE3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E00A4B-35A6-4AE9-B40B-39DDD11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B74AB8-05BB-4496-ABC2-59C23AE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AE9FBD-7953-4B92-9EE3-ECAC1A5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77715AB-046E-497F-A124-9C2D25E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015647-0E26-4137-A237-4FC1DA7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7CBA-811F-4300-A269-A6CC5D0B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E6CA95-DDD5-4693-B14B-2B265516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1A8809-B4F6-4299-AFDD-3CCBBEE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A70D36-3793-4DE5-A14E-EFDDC07D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A7D41B9-F387-439B-882C-B6E75565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4C63452-C4BF-4BF6-BB03-33A56253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9E19B7-3CF9-4A79-B63D-EC1B948A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B4D1B30-85E1-45BC-B933-CF9AA59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1EEFEFB-B420-4D19-A669-8559A77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A1FAD90-D3C4-4A8F-A8C2-35C6FFA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489BBB7-F938-4718-A327-0E01E53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52BD-62E6-4B27-BFAC-F2F16FD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B94B39E-297A-497D-86AF-E7836E9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C9E2DAB-DBEC-48E7-A973-09E97FE3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501D1CF-22C4-44A4-A50B-AF513B7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000A04-85A9-4C2D-9CC0-9F0C772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8C794FF-29B8-4515-9756-7603926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0CEDDB-C2EF-40DF-AB19-779327F1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30F55A9-E33C-42BD-A472-3143117B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1AEC841-7DD1-49C4-87F7-5F11FADD2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4FE688F-EFE1-47A3-95CA-B0738280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234F55B-5F84-4772-B77A-726D83F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A77B-D3C0-4BD6-87BD-C2E29610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CE3434F-5B1D-4472-BC48-A97BE01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A2AD9A-3972-4C73-8024-45A3A21A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F03270C-6D8C-4809-BCDC-0FF46BAC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B35ACF5-BC4D-4C16-9778-6A31B8BE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0B0953D-626E-433A-8EA8-F39B623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5A092C-FE33-4E93-9761-AC56537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6ECB6A-ADD5-43C4-B5B2-C60AD40D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8E77DA6-C712-4936-8AC3-1D8668A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9C7ED32-1611-4E39-93AC-FA566A0BE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82A761-9E55-4BAA-9146-31CE576A2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B9F6-485C-4D17-96EB-7955BC9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A54E98-2552-4BFF-882B-08F7D15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0BD4E2-C13E-4E3B-9A7A-89443F7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2A0E8A-C9B4-4D15-97DF-4840C4F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3737CC-932D-416E-AAC7-C82B372E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375161-11D0-4EBF-95AE-3CA78AC4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4916D3-8005-408E-999F-51EF766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83EACA-D0F6-4F0B-9C9B-9D48C0B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A6BDCC-EA46-4D05-9D0C-7D798B26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8BF9BA-C205-4D9A-8EF7-BAC1339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FF75F1-EA73-4F25-BCD7-CF1FEED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CD63-EE20-404E-AB8B-FDCC14AD6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6D8619-7B66-4DBD-9B4A-D539EDF03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86404EF-72B4-4C0E-A554-9B0877A05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A107882-214F-4445-B0CA-6678C60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15474C4-BFA6-4F04-A6A2-794C3D5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C3CEBAD-3518-42D0-BBCB-73C7C8E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3945824-5D4F-4352-8245-8104BC02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837AB75-B93C-49BA-8FDF-E4D06B10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7B9B5CD-6748-4D0D-8B1F-C6CC637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13CE67-475C-4091-A2BA-4D9C10E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2DE8972-DCD5-496A-B6EF-39D08F0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5EA3-2E9F-4E4C-AB60-A10CF6A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EF37EE0-5B61-4DC1-8ED6-F2A05AFC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48CCFBB-6875-4B1B-842A-DA178E2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5A647B4-9134-49BE-92FE-1D5EAD026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634BC9-04D1-4F65-AA7C-31EB66A2F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DCB48FC-2036-4531-A095-CA5F604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6D826D4-8D1A-4056-88DA-71353B2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40FF1A-45A3-4CD1-8675-5E4C013B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6167854-6F80-4C77-AE85-88929583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C727CEB-473C-4013-BA8B-3277FC56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676576F-559D-449B-B461-2604FA9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43F7-CCB9-4F01-B86A-8C0A63F35D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2568-38E1-4D27-AA1F-BD89751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B0891B-B928-44CC-8BF5-2A6AA15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7299282-B3FF-42D3-B0FD-7E74BC2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0E8CF5A-779E-455F-8538-BD3CF527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49CCDD-B0FD-4F3A-AE82-9477380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18F59C-5E51-438A-813F-DCC0D3ABB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E446AD-4D16-4650-8BA9-A57A5BA87E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BD18E1-6B5E-4B56-B709-36E9D77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AC4248-0345-4078-834B-D041B3A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AFD208-6ED8-438D-A2B2-F2E4C87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0721B9-F406-40AA-92CE-682D4162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577E-599F-4161-9ED3-EB93850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6C1B4D-E2E2-4190-8FE4-1052BA99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08D6A3-F6FB-4F2A-8A33-73604A9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D24E3E-6EEE-48F5-A7AC-4BC71D6A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6FA9D3-3A0C-433D-8A05-52BD27D3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A8D874-F512-414B-B856-9D51329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46DDD0-869E-44A0-9B80-DD8C78D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2E4E77-4F5C-4793-B41A-2117A9D7A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9535B4-68CA-4951-87F0-7BBC5CC3E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E6F9093-8E3E-412B-AD2A-6139C54A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F3E2A61-8CBF-4FE6-8943-6B584EB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35B2-D8AC-42B9-B465-6F6E237C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CA2BEB9-6836-4614-B5E3-C79E6815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FDD951B-88A7-4D9F-91A6-3852747B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5F3C354-5F63-4B75-A1CC-4FCABB8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3F74AEA-47ED-4CDE-9868-F0AE5E5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7DD3B42-AFAD-4F3F-A140-1ABD712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FF9F94C-0118-4906-8CDC-57EFB8F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E2D3535-E8A9-4427-B42C-AE65043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1D750B-5BFF-4406-A88A-C0D317E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3E37F6C-238F-4F4A-B771-8008F02AA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0A190D-5121-4911-A970-E42103A6B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3B15-4943-45B3-B88D-9DC1FAD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1B3AA4D-581C-4BBE-A0C6-A378001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03F1DFC-F694-4B8A-AE08-0F66749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9276951-25A8-4990-8457-3FB806B5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C6B6D7-7811-4590-91D3-892CD99D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82CCEAE-B813-41E0-822A-71F28F26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8A7F4E6-0ADE-4B46-A5F4-E40C8AA6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5811DFE-B976-4F2B-AC9C-93141AD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89F5617-154E-462D-A674-428A36E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E28F78-797F-4857-8BF8-A756FB2E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F90CE06-0A45-4464-B5B2-6729B5B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CE86-473F-465D-9172-973F777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4A10478-4E7F-4041-81C7-FF1F8F593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29AA72-14D2-42AE-A539-E12AA5E3B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BA1A72-D270-4559-AC22-A737ECA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AB023E-3B04-4BC3-87C5-92E67F1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04E0CB-3F0D-4724-AF6F-5CE2073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725166-B7E1-41B9-BF7B-A8D2F014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6758DC-AF20-49C1-9BA3-E59B52B2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ABD764-64D5-4B68-A7D3-9634B5A2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071B1B-E917-49AC-9430-AC6D51F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635634-461B-489F-BBB5-1EC4DB61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50C6-D5E8-4136-B291-1A37BA9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9B5078-ED4F-4BE3-9105-EDE9DA1F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A802CE-0BEB-42C7-B981-B55F948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8B6622-174F-46C8-BBAC-10145C7A9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B832DD1-065B-4448-BBC0-6B47D3305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37656D2-E761-4D07-9C4F-ADF3577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012873-09D0-48FE-A350-CE6D9C7D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C655893-C6F3-4AFE-BC9A-FD794DB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8B8BD1-B3CA-46E6-8ED1-FA766B5A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ECF5C68-F408-4435-8690-3DA7E43A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BFC6724-206F-47FB-8A4A-4B87F2A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DA5F5-BDF1-4BB5-9BDD-2A2A15E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9FB3765-FD84-469B-8E70-7AEEF8FD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F68128-A850-4872-BC28-54C7700A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FBB4780-A427-4CDD-BDC5-508247B7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51AA299-651D-449A-AE95-1409242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1C33836-36C5-4F39-B38B-D3B606E3F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E6081ED-9E93-4A08-AA0C-3B6C89AE1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2171371-4FF6-4FA0-9D3F-BC4E75C6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4CBE0C3-E3E3-4137-928C-AC72A3B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EFB0D53-8F13-4042-ACB9-B1700C0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F532E66-4C7B-4312-87F8-17F7CC42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B85D-7A80-4AEB-8326-90E4607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D68FB78-D098-4BAF-8354-BAD2CD16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EEC2AA6-81DA-4B3F-9D1E-843FFD27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9A42AD1-1400-4648-9DC3-7FAF6F20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2176360-2796-4810-8FDE-01656D83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7F21085-D8E1-4BD6-91EA-336486B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755D001-D1BB-438B-8988-450CA03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10FEBBE-4B15-4320-9373-B89B76C23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663A46-40A7-41FC-9F93-75E873556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494B84-6F67-4D0C-B7D0-C843DCE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222C4D-1220-4FFD-B888-65CB809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9DC6-722F-4162-BB22-5285727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B492DA-7937-4F7E-984D-EA297BF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52D317-9775-4854-AD54-80321DFF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0FF039-9EA0-4E20-8C97-40E9A12A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B84044-D495-4ADE-9C3C-FB549C7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6005E9-50C5-4F4F-AD20-A196B86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AF2239-815A-48CB-8A68-DD7F376C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6E8A0F-DA19-4F34-9547-79BAF1EA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0B957E-1C63-4D2C-A7F3-9CFD933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FE4CC8-736A-4D5E-A17A-C4D5EC7DC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598B99-BAB0-4BC6-9CB1-66D0FDC2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2A413-EF87-4097-BB70-F9BA9A5D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A89CA7-9C2C-41DE-8E6B-25986E4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E6180C-927B-4FD7-BA59-863297F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79C394-5315-405F-A8F2-F19AE636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E03283-6D6A-4DD3-A2A5-462D8DA7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730CB3-B0AB-4808-AF22-AF9161E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8B2A9A-0547-4D44-B64E-6B268EC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7B3DE9-18D7-4B3F-A889-C9F78A7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83AD6C-8603-4D15-A178-906196E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E2EED3-A37A-46B3-A171-F3FDD0B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669658-47E0-41B6-9079-C396CB8C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DCB4-5226-4565-BFF3-52E5DF6AD1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1231-396A-4CF4-925B-EFF79121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E0EFDA-7047-470E-AB81-FD26C7EC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0D58EF-6732-425B-9982-FC5E1230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F5E9F0-D8FE-4EDD-83FB-541A8CC6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B1B789-3101-4E65-B8F6-67AB249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C89686-750D-4ABF-A225-19283F78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EF8201-1677-4DFE-BF55-5DA6AA0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4126BC-B05D-4D4E-A3F3-7A95726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4466B7-E228-4224-B0E5-3D975BB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5834DC-1868-4FED-8B12-E0B1E79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EE9D5D-4DB5-46C6-9673-FB57A82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EB490-6637-4907-B8EC-D6C04CB1A294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119068-9444-4389-8302-6331F35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663A63-BCDD-4A9D-8B09-23DD6697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EC5D05-FB59-41D6-8438-9D57A9D0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1EA6E2-E3B1-471F-A874-078FFA73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8CA5FE-A336-420D-8BBF-8E04B2E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922DC5-C00C-43EE-BE07-9697A9A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08B7DD-D10F-41A3-BE21-205337AE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4C611B-13F0-4830-857D-8897CBE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F01C77-749E-451E-96A1-1B568F6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E6BAAA-4F5C-4EA1-8C9F-6B77009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143C1-93DF-4708-B0A5-1CF851714978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F3DDAF-AB59-4929-8571-651D44A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E34AB3-033C-4359-B842-8D8783B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1B8A76-CA0D-4832-AE33-F0AD3FF5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3E0F22-5E72-4395-8BA9-8F9B4D65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F0CDCB-6D9D-461D-B3AD-53D749F8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147FCE-888A-4984-88CC-74AF6CAE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32AED9-7CDC-4036-B802-58C1791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356386-29C0-47D2-A911-0201BC5A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4BDF91-86E3-467B-A257-1DE1513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EC7607-40AC-4C27-8A7C-001C742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4DB57-AAA8-44E9-9B06-8CEE220A6A0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BEE06C-3E9F-4995-AB47-1589E327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AE548-20BE-44CC-A825-3E2F2F8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4E6FF9-13EA-4D84-A939-8C4535C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4877C8-4DEC-41B7-B220-D565BB5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0984D6-7817-485B-8B93-B36CB341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3D6DD9-2DC3-4D5B-BF77-3CA8D8B1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860CB3-DBE7-43AA-8D15-D72730BE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AF6081-525D-405C-B5AA-66042293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C50834-C928-4A31-9FDF-2A5C2EC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32AC21-3BAB-4D9F-B9B0-72C9E58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25699-8721-48E1-B190-EDF0B0EDE05E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9A152E-86E6-48E4-B43C-B2F8A226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99FEAD-1ED6-470D-B242-687868CF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C4F913-A3CE-4EF5-8BE2-F9FFEC8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DDCE2D-F00D-472B-95B5-3CB30B8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C0F8F0-5498-4D4B-8F06-67701DC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9D1DB1-B19B-4B2D-BA8C-7C20117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E0356A-2989-4849-BE30-7FF2EAD6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668C28-1A2D-4453-8D17-EC1692DE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995A80-355D-4008-A8C1-ED6B5AF5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A16A8D-5EAD-4FC6-A213-855E408A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C0A74-E005-45A9-8BEA-65AA4C03310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39A586-10E3-49BE-A880-F24DC68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170B2A-738A-4054-A811-73CB52F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3F3A5F-056C-4F50-B208-E5F403F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D9D047-64BF-4544-89BD-B29745BA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F35833-2C89-4E58-A686-407C0D25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8AB41D-8F9C-427F-AB3A-8275B17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E5963B-B584-4073-B591-5FE54A9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5066B4-0545-4284-913D-BE8D65A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CF537B-E3CD-4677-A76D-1D2FB36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449120-1C56-4D9B-AD04-E6C3B235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3CF38-1D4E-4377-B125-902D78735BA1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666068-B6DF-4559-AF3E-8B99814C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6D32077-5245-416C-9CD2-DB34F774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29E50E-6F1C-4F84-AA84-60B2E3B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55FFC7-F8C1-4EEF-A23E-E8A5E935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C45894-614E-4A24-9466-BCDC6C5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5296EC-D2F8-43BB-81BC-3F0EC26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C9130A-475B-48E8-B46F-7313ACBD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33B36F-BB16-4882-982A-3FB659E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D1B17D-A8F0-4E59-A40E-91498C3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DDF7AB-DC96-473E-B925-E1E3D68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3C3159-D12B-4344-A65A-1C4BB440631B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2A5D01-F829-4EF0-8018-674FB26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E47136-5CBD-40E6-8FB9-78F69F41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CC0B78-5857-4D9A-BB4C-FC190C97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2F24C7-6694-4BA5-A316-3FF198D3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03AFC5-6A4D-4CDE-AC62-0A34215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81E28D4-4F8F-4AE2-B8DF-A576CDA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C00C70-0C14-4BF9-980B-26F3FF1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AF6CA7-6599-473C-9A5A-4949B4F9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3130DF-A1C9-48C6-8587-1124381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72D11D-CF6F-4788-AD7D-D6C52B0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94B08-5803-4E45-A521-D4CEF4E52885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83C96BC-6704-4C41-83BD-00FA2E2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4E8112-A3A6-432F-9738-F09D7AC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886756-A75D-457C-BC6D-E175D0A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7D6755-FD22-452A-917B-4F487BCD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ECB51F-D906-470C-ACA2-88B7E1A3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16CD16-8AFD-479E-894C-6A565873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87C3C9-AA01-4A3D-9C32-0A27D83A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B48EEB-E0C3-4259-B019-3231FCC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5C1CBB-AC35-4CA8-B121-2CBEA34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271B1E-A17B-4D3D-B927-3D06CBF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47D98-27C3-4551-8DED-A92D4C4FC898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ABA0F3-E93D-4D3A-98F7-32B12FF6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B3FC66-56CD-4404-BCFA-3EC8CF9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E7149F-320F-4FCC-983D-15CC0A6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7E83C5-E32D-4B56-90DD-92E9670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5322B7-B892-4F29-9E7D-8E401BF8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3AECB4-9444-4A1F-930F-4A774A71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ABD6E02-A8ED-4F4A-BDF3-75B5A460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F69754-76C6-4760-A5D9-1585215C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3C854A3-B792-42B2-A2E2-AEA5DAAE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714CB9-484E-48F6-B38C-62167BC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630A-E9B2-4A5C-893B-91FE37936C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49D0C-3C66-4D7A-A566-8A26F12AB7F9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BF4A1EF-E347-4FB6-AA48-BA66593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6710AA-F56E-4F9A-BC83-69CAF367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392FDF-ED42-40AD-860A-8DD2853D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22DD3B0-03A8-4BF7-8B22-DECE43C5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622823-73AF-4B60-A95A-D14AA22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670B49-693F-4216-B349-E445CE4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0C593C-453F-467E-A9A8-9F39934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454A0B-5728-4330-A557-EF228F01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3929C0-8DE7-4D4B-9E4D-BDA9E252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EAF439-3643-44B0-BCFE-C3498E02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4F3D5E-71FD-4BAB-A085-00CE76B81A42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CBB4C5-E915-46D6-B71F-A4619D0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D01A91-B01F-4DD3-9038-100AB79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AA9792-83E1-4D5A-8CEB-DED7BD2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AB2438-9EC1-4E59-A492-31F46FA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AA8EFC-E817-4E7F-916B-BB909D8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4DBD2A-8EB9-4F2F-9A8C-F9CF963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F6A346-D05F-4E4B-988C-43E7BCF4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B33288-F0F0-4C08-936E-1875602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561BE8-0DFD-4211-99C0-DB8D36D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C961BE-5203-4459-B35D-408C03A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06EF9-587A-4B96-A2B2-334E93DE9643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722965-38D5-45CF-A32E-095D6122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289F5-C1D6-472D-9E27-6725942440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11AD6-80FB-4C05-B60C-FB3A1A1454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45908-D921-4518-8BF4-16FE1F9E2D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5E60E-93A7-40A5-B163-9701959ACB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2680D-7AD4-458D-9C35-B547C3BF9D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ECF6C-CD16-4B30-AEA2-9A19574428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72369-D00E-45B5-9062-D02D96705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4B0F-2B82-497D-89EC-0B10374A6B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46692-5E69-49E6-891B-69B723C329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A9E53-A960-4EE0-9F97-32AE1976D6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7770A-1620-461D-99D4-30FF4C553F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64229-3923-427A-9862-C8DF269073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95CE1-B82C-4941-82FA-0A9EE508EB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EAFF-D091-4CC4-8D98-A1ECACA895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1CE7-6264-45E0-949F-A42FEBB13F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8E72-6BA0-41DD-9F67-7B3DC2FA3D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5D56-E950-47B6-BA69-5D546F16C7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AB83-D2AC-48F1-9B44-0445413B0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A3D0-AFF8-4DD4-829F-05B50E8F68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D42C-94D5-4878-9EA5-65BA11115C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05BE-D915-41F2-8EA5-29469984A3B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1C62-4742-4317-8D9C-23627A1D40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0830-A169-46AF-BF17-D7481817BAA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C1A2-1A5B-46A8-B6A2-725B78F21AC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0169-630C-4E88-9B40-9D7C1ADADD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7129-0D7A-46D7-8329-D31AECF51B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D0247-A418-4C0B-A6BD-7F460B27AD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E5458-7039-4F03-A4E9-EF10E86FF9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B23F4-F028-47C3-8D5D-5F241B3EC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A70-A751-4816-A202-D199AD79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40BF-1B3C-4544-8601-F0D1DAA45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B8D-ECB2-4423-A29B-067B9525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507-6506-44F2-ACF5-0E6E6828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A374-EBB5-42D4-89DD-81F30946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CFAB-C4F7-49E1-9685-6B6C0280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8D7-8D85-48F9-B670-1EDE923A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467-0DBD-49AB-A714-1D25530D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2252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2253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2253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2253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2253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2253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2253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66B1-BF0B-4CB9-959F-023689235B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078E-8BC1-49CA-95B0-9879AB6164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EB8-03B7-4811-BBDE-78592868C60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150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50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2150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150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150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151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151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823-DAEC-4463-9482-6EC30A28202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117-2759-4842-80FD-7EE132D4F3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6990-3FD7-4F4D-8046-03E117AA3D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C4C-0EA2-466A-8C73-4BD9B83CD2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28B9-42B4-4375-B4AB-F41FE4DCAD6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CB82-DADC-471E-9E59-A1333888A3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276-2180-4235-9196-51966B1D81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0B3-EC0C-4229-BFAE-1BA8192C5B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B059-74D3-4E0B-9C7E-C9A143A27C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2560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2560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560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560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2560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2560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2560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5BB-E15D-402A-BBCC-D6D68DF4A6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60F-81EF-4F17-93CF-4044461BC3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457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2457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2457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2458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458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2458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458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536-2D3B-40A4-949E-95FB23FC43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AC5-0E7F-49F8-8F8B-1A4AF87E652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6ECD-4EFC-4F83-BCD3-EBC1CDCF60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C8E9-7D67-42EB-9CBD-0A0E91AC50B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53E1-45CD-4E7A-A004-2E33AE7C7B7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3C7-C93B-4946-94AB-1919E86623A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4F6-F432-4747-BC57-826A1E68AD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4D78-C3FC-4666-94B3-85E332A8F6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8642-A4D7-46C7-9477-D40A7EE263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95F2-54AF-4491-B44B-8B59A30896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E3DB-AE74-46CF-B923-AD49B337250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231-5A03-45DB-B9B5-06F67F34F0F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7C62-7E5B-421D-A1A4-4DA41E38C9E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45C4-79C6-41EB-9FC0-5BACA16EB0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B82-1C27-42B1-AB3A-B31B563435B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67A-71FB-4862-8E1A-F38423359A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0557-AAF7-4540-ACCB-F659BC47B4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1326-EFE9-4A74-8894-3F91E71332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8FBC-22F3-4E19-93C4-3FB57D892E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A5C6-052F-47AF-9923-6239C46188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901E-B957-4560-AD79-C7867639C91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FAC-55D0-4F8F-A01E-376D0F530DD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36E-B0BC-4D89-AA6C-2D603BD0B83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8F7-B14C-4EA9-B3E0-C79355014CA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BD4-DC31-4198-93CA-DDF2536890E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742E-F576-4DE1-B07D-7A5FCC49B86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19F8-581B-490F-9C10-15FE26F4CBF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B20-24C2-4BC3-95C4-29785EFAA0E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BFF-CA0E-45C6-96A4-6DC7697373B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7B01-FFEB-4B32-ABCE-AC9E81B423E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A044-BC5B-4EAA-B2C8-024612753C3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3A4-B21C-4ADF-88D9-5CA18A8433F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993D-9ED5-4F75-88B9-9AE1D8721A1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6659-BCEE-4879-804D-B302D1A2B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9C3D-A8AF-4053-98AE-DE0BEB6AB3D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DE46-EEB6-4C7E-A935-1A02214A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76B6-6BA1-41F2-84B3-CF57C31A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799-98F0-4428-BFF3-0BCE20713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9"/>
          <p:cNvSpPr/>
          <p:nvPr/>
        </p:nvSpPr>
        <p:spPr>
          <a:xfrm>
            <a:off x="8291520" y="1803240"/>
            <a:ext cx="430200" cy="432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2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5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8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1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4"/>
          <p:cNvSpPr/>
          <p:nvPr/>
        </p:nvSpPr>
        <p:spPr>
          <a:xfrm>
            <a:off x="2195640" y="1413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矩形 25"/>
          <p:cNvSpPr/>
          <p:nvPr/>
        </p:nvSpPr>
        <p:spPr>
          <a:xfrm>
            <a:off x="3673800" y="27813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1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Text Box 2"/>
          <p:cNvSpPr/>
          <p:nvPr/>
        </p:nvSpPr>
        <p:spPr>
          <a:xfrm>
            <a:off x="109944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半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3"/>
          <p:cNvSpPr/>
          <p:nvPr/>
        </p:nvSpPr>
        <p:spPr>
          <a:xfrm>
            <a:off x="303768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直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7" name=""/>
          <p:cNvGraphicFramePr/>
          <p:nvPr/>
        </p:nvGraphicFramePr>
        <p:xfrm>
          <a:off x="826920" y="2046240"/>
          <a:ext cx="7632720" cy="183672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  <a:gridCol w="1908000"/>
                <a:gridCol w="19083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8" name="Text Box 26"/>
          <p:cNvSpPr/>
          <p:nvPr/>
        </p:nvSpPr>
        <p:spPr>
          <a:xfrm>
            <a:off x="498096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27"/>
          <p:cNvSpPr/>
          <p:nvPr/>
        </p:nvSpPr>
        <p:spPr>
          <a:xfrm>
            <a:off x="6867000" y="216684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面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28"/>
          <p:cNvSpPr/>
          <p:nvPr/>
        </p:nvSpPr>
        <p:spPr>
          <a:xfrm>
            <a:off x="1587960" y="2884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29"/>
          <p:cNvSpPr/>
          <p:nvPr/>
        </p:nvSpPr>
        <p:spPr>
          <a:xfrm>
            <a:off x="3333600" y="3389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30"/>
          <p:cNvSpPr/>
          <p:nvPr/>
        </p:nvSpPr>
        <p:spPr>
          <a:xfrm>
            <a:off x="3388320" y="2884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31"/>
          <p:cNvSpPr/>
          <p:nvPr/>
        </p:nvSpPr>
        <p:spPr>
          <a:xfrm>
            <a:off x="5118480" y="2884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.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32"/>
          <p:cNvSpPr/>
          <p:nvPr/>
        </p:nvSpPr>
        <p:spPr>
          <a:xfrm>
            <a:off x="1603800" y="3389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33"/>
          <p:cNvSpPr/>
          <p:nvPr/>
        </p:nvSpPr>
        <p:spPr>
          <a:xfrm>
            <a:off x="5134320" y="33894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7.6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34"/>
          <p:cNvSpPr/>
          <p:nvPr/>
        </p:nvSpPr>
        <p:spPr>
          <a:xfrm>
            <a:off x="1431000" y="4068720"/>
            <a:ext cx="37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的半径扩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直径扩大（     ）倍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扩大（      ）倍。面积扩大（        ）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35"/>
          <p:cNvSpPr/>
          <p:nvPr/>
        </p:nvSpPr>
        <p:spPr>
          <a:xfrm>
            <a:off x="4358880" y="407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36"/>
          <p:cNvSpPr/>
          <p:nvPr/>
        </p:nvSpPr>
        <p:spPr>
          <a:xfrm>
            <a:off x="226908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37"/>
          <p:cNvSpPr/>
          <p:nvPr/>
        </p:nvSpPr>
        <p:spPr>
          <a:xfrm>
            <a:off x="1431000" y="5157720"/>
            <a:ext cx="37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的半径扩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直径扩大（     ）倍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扩大（      ）倍。面积扩大（        ）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38"/>
          <p:cNvSpPr/>
          <p:nvPr/>
        </p:nvSpPr>
        <p:spPr>
          <a:xfrm>
            <a:off x="4432320" y="5157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39"/>
          <p:cNvSpPr/>
          <p:nvPr/>
        </p:nvSpPr>
        <p:spPr>
          <a:xfrm>
            <a:off x="2198520" y="5734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40"/>
          <p:cNvSpPr/>
          <p:nvPr/>
        </p:nvSpPr>
        <p:spPr>
          <a:xfrm>
            <a:off x="6845760" y="2884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.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41"/>
          <p:cNvSpPr/>
          <p:nvPr/>
        </p:nvSpPr>
        <p:spPr>
          <a:xfrm>
            <a:off x="6855480" y="3389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13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42"/>
          <p:cNvSpPr/>
          <p:nvPr/>
        </p:nvSpPr>
        <p:spPr>
          <a:xfrm>
            <a:off x="479016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43"/>
          <p:cNvSpPr/>
          <p:nvPr/>
        </p:nvSpPr>
        <p:spPr>
          <a:xfrm>
            <a:off x="4725000" y="573264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4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4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5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组合 72"/>
          <p:cNvGrpSpPr/>
          <p:nvPr/>
        </p:nvGrpSpPr>
        <p:grpSpPr>
          <a:xfrm>
            <a:off x="4211640" y="1700280"/>
            <a:ext cx="3816360" cy="3816360"/>
            <a:chOff x="4211640" y="1700280"/>
            <a:chExt cx="3816360" cy="3816360"/>
          </a:xfrm>
        </p:grpSpPr>
        <p:pic>
          <p:nvPicPr>
            <p:cNvPr id="2765" name="Picture 2" descr=""/>
            <p:cNvPicPr/>
            <p:nvPr/>
          </p:nvPicPr>
          <p:blipFill>
            <a:blip r:embed="rId1"/>
            <a:stretch/>
          </p:blipFill>
          <p:spPr>
            <a:xfrm>
              <a:off x="4211640" y="1700280"/>
              <a:ext cx="38163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6" name="Oval 3"/>
            <p:cNvSpPr/>
            <p:nvPr/>
          </p:nvSpPr>
          <p:spPr>
            <a:xfrm>
              <a:off x="5016600" y="2643480"/>
              <a:ext cx="2206080" cy="19299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4"/>
            <p:cNvSpPr/>
            <p:nvPr/>
          </p:nvSpPr>
          <p:spPr>
            <a:xfrm flipH="1" flipV="1">
              <a:off x="4931640" y="2276280"/>
              <a:ext cx="1192320" cy="13233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Line 5"/>
            <p:cNvSpPr/>
            <p:nvPr/>
          </p:nvSpPr>
          <p:spPr>
            <a:xfrm flipH="1">
              <a:off x="6083280" y="3140280"/>
              <a:ext cx="1013400" cy="4410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Text Box 6"/>
            <p:cNvSpPr/>
            <p:nvPr/>
          </p:nvSpPr>
          <p:spPr>
            <a:xfrm>
              <a:off x="5291640" y="227628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Text Box 7"/>
            <p:cNvSpPr/>
            <p:nvPr/>
          </p:nvSpPr>
          <p:spPr>
            <a:xfrm>
              <a:off x="6372000" y="2924280"/>
              <a:ext cx="28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1" name="Text Box 8"/>
          <p:cNvSpPr/>
          <p:nvPr/>
        </p:nvSpPr>
        <p:spPr>
          <a:xfrm>
            <a:off x="1938240" y="5516640"/>
            <a:ext cx="4600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圆的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内圆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9"/>
          <p:cNvSpPr/>
          <p:nvPr/>
        </p:nvSpPr>
        <p:spPr>
          <a:xfrm>
            <a:off x="684360" y="2781360"/>
            <a:ext cx="302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矩形 73"/>
          <p:cNvSpPr/>
          <p:nvPr/>
        </p:nvSpPr>
        <p:spPr>
          <a:xfrm>
            <a:off x="961920" y="148428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7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76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8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9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9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7" name="Group 30"/>
          <p:cNvGrpSpPr/>
          <p:nvPr/>
        </p:nvGrpSpPr>
        <p:grpSpPr>
          <a:xfrm>
            <a:off x="198360" y="2133720"/>
            <a:ext cx="8497800" cy="2608200"/>
            <a:chOff x="198360" y="2133720"/>
            <a:chExt cx="8497800" cy="2608200"/>
          </a:xfrm>
        </p:grpSpPr>
        <p:sp>
          <p:nvSpPr>
            <p:cNvPr id="2798" name="Text Box 31"/>
            <p:cNvSpPr/>
            <p:nvPr/>
          </p:nvSpPr>
          <p:spPr>
            <a:xfrm>
              <a:off x="198360" y="2133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、填表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Rectangle 32"/>
            <p:cNvSpPr/>
            <p:nvPr/>
          </p:nvSpPr>
          <p:spPr>
            <a:xfrm>
              <a:off x="6751440" y="4224600"/>
              <a:ext cx="194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Rectangle 33"/>
            <p:cNvSpPr/>
            <p:nvPr/>
          </p:nvSpPr>
          <p:spPr>
            <a:xfrm>
              <a:off x="4664160" y="4224600"/>
              <a:ext cx="2087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8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Rectangle 34"/>
            <p:cNvSpPr/>
            <p:nvPr/>
          </p:nvSpPr>
          <p:spPr>
            <a:xfrm>
              <a:off x="3008160" y="4224600"/>
              <a:ext cx="1656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Rectangle 35"/>
            <p:cNvSpPr/>
            <p:nvPr/>
          </p:nvSpPr>
          <p:spPr>
            <a:xfrm>
              <a:off x="1350720" y="4224600"/>
              <a:ext cx="165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Rectangle 36"/>
            <p:cNvSpPr/>
            <p:nvPr/>
          </p:nvSpPr>
          <p:spPr>
            <a:xfrm>
              <a:off x="487440" y="4224600"/>
              <a:ext cx="86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Rectangle 37"/>
            <p:cNvSpPr/>
            <p:nvPr/>
          </p:nvSpPr>
          <p:spPr>
            <a:xfrm>
              <a:off x="6751440" y="3706920"/>
              <a:ext cx="194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38"/>
            <p:cNvSpPr/>
            <p:nvPr/>
          </p:nvSpPr>
          <p:spPr>
            <a:xfrm>
              <a:off x="4664160" y="3706920"/>
              <a:ext cx="208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Rectangle 39"/>
            <p:cNvSpPr/>
            <p:nvPr/>
          </p:nvSpPr>
          <p:spPr>
            <a:xfrm>
              <a:off x="3008160" y="3706920"/>
              <a:ext cx="165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Rectangle 40"/>
            <p:cNvSpPr/>
            <p:nvPr/>
          </p:nvSpPr>
          <p:spPr>
            <a:xfrm>
              <a:off x="1350720" y="3706920"/>
              <a:ext cx="165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41"/>
            <p:cNvSpPr/>
            <p:nvPr/>
          </p:nvSpPr>
          <p:spPr>
            <a:xfrm>
              <a:off x="487440" y="3706920"/>
              <a:ext cx="86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Rectangle 42"/>
            <p:cNvSpPr/>
            <p:nvPr/>
          </p:nvSpPr>
          <p:spPr>
            <a:xfrm>
              <a:off x="6751440" y="3189240"/>
              <a:ext cx="194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Rectangle 43"/>
            <p:cNvSpPr/>
            <p:nvPr/>
          </p:nvSpPr>
          <p:spPr>
            <a:xfrm>
              <a:off x="4664160" y="3189240"/>
              <a:ext cx="208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44"/>
            <p:cNvSpPr/>
            <p:nvPr/>
          </p:nvSpPr>
          <p:spPr>
            <a:xfrm>
              <a:off x="3008160" y="3189240"/>
              <a:ext cx="165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Rectangle 45"/>
            <p:cNvSpPr/>
            <p:nvPr/>
          </p:nvSpPr>
          <p:spPr>
            <a:xfrm>
              <a:off x="1350720" y="3189240"/>
              <a:ext cx="165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Rectangle 46"/>
            <p:cNvSpPr/>
            <p:nvPr/>
          </p:nvSpPr>
          <p:spPr>
            <a:xfrm>
              <a:off x="487440" y="3189240"/>
              <a:ext cx="86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Rectangle 47"/>
            <p:cNvSpPr/>
            <p:nvPr/>
          </p:nvSpPr>
          <p:spPr>
            <a:xfrm>
              <a:off x="6751440" y="2638440"/>
              <a:ext cx="19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Rectangle 48"/>
            <p:cNvSpPr/>
            <p:nvPr/>
          </p:nvSpPr>
          <p:spPr>
            <a:xfrm>
              <a:off x="4664160" y="2638440"/>
              <a:ext cx="2087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Rectangle 49"/>
            <p:cNvSpPr/>
            <p:nvPr/>
          </p:nvSpPr>
          <p:spPr>
            <a:xfrm>
              <a:off x="3008160" y="2638440"/>
              <a:ext cx="165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Rectangle 50"/>
            <p:cNvSpPr/>
            <p:nvPr/>
          </p:nvSpPr>
          <p:spPr>
            <a:xfrm>
              <a:off x="1350720" y="2638440"/>
              <a:ext cx="1657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Rectangle 51"/>
            <p:cNvSpPr/>
            <p:nvPr/>
          </p:nvSpPr>
          <p:spPr>
            <a:xfrm>
              <a:off x="487440" y="2638440"/>
              <a:ext cx="86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Line 52"/>
            <p:cNvSpPr/>
            <p:nvPr/>
          </p:nvSpPr>
          <p:spPr>
            <a:xfrm>
              <a:off x="487440" y="2638440"/>
              <a:ext cx="820872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Line 53"/>
            <p:cNvSpPr/>
            <p:nvPr/>
          </p:nvSpPr>
          <p:spPr>
            <a:xfrm>
              <a:off x="487440" y="318924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Line 54"/>
            <p:cNvSpPr/>
            <p:nvPr/>
          </p:nvSpPr>
          <p:spPr>
            <a:xfrm>
              <a:off x="487440" y="370692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Line 55"/>
            <p:cNvSpPr/>
            <p:nvPr/>
          </p:nvSpPr>
          <p:spPr>
            <a:xfrm>
              <a:off x="487440" y="422460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Line 56"/>
            <p:cNvSpPr/>
            <p:nvPr/>
          </p:nvSpPr>
          <p:spPr>
            <a:xfrm>
              <a:off x="487440" y="4741920"/>
              <a:ext cx="820872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Line 57"/>
            <p:cNvSpPr/>
            <p:nvPr/>
          </p:nvSpPr>
          <p:spPr>
            <a:xfrm>
              <a:off x="487440" y="2638440"/>
              <a:ext cx="0" cy="21034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Line 58"/>
            <p:cNvSpPr/>
            <p:nvPr/>
          </p:nvSpPr>
          <p:spPr>
            <a:xfrm>
              <a:off x="135072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Line 59"/>
            <p:cNvSpPr/>
            <p:nvPr/>
          </p:nvSpPr>
          <p:spPr>
            <a:xfrm>
              <a:off x="300816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Line 60"/>
            <p:cNvSpPr/>
            <p:nvPr/>
          </p:nvSpPr>
          <p:spPr>
            <a:xfrm>
              <a:off x="466416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Line 61"/>
            <p:cNvSpPr/>
            <p:nvPr/>
          </p:nvSpPr>
          <p:spPr>
            <a:xfrm>
              <a:off x="675144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Line 62"/>
            <p:cNvSpPr/>
            <p:nvPr/>
          </p:nvSpPr>
          <p:spPr>
            <a:xfrm>
              <a:off x="8696160" y="2638440"/>
              <a:ext cx="0" cy="21034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0" name="Text Box 64"/>
          <p:cNvSpPr/>
          <p:nvPr/>
        </p:nvSpPr>
        <p:spPr>
          <a:xfrm>
            <a:off x="3274920" y="3227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65"/>
          <p:cNvSpPr/>
          <p:nvPr/>
        </p:nvSpPr>
        <p:spPr>
          <a:xfrm>
            <a:off x="5126040" y="3252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2.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66"/>
          <p:cNvSpPr/>
          <p:nvPr/>
        </p:nvSpPr>
        <p:spPr>
          <a:xfrm>
            <a:off x="6751800" y="322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1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68"/>
          <p:cNvSpPr/>
          <p:nvPr/>
        </p:nvSpPr>
        <p:spPr>
          <a:xfrm>
            <a:off x="1630440" y="371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69"/>
          <p:cNvSpPr/>
          <p:nvPr/>
        </p:nvSpPr>
        <p:spPr>
          <a:xfrm>
            <a:off x="4932360" y="3710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5.1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70"/>
          <p:cNvSpPr/>
          <p:nvPr/>
        </p:nvSpPr>
        <p:spPr>
          <a:xfrm>
            <a:off x="6659640" y="37576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.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72"/>
          <p:cNvSpPr/>
          <p:nvPr/>
        </p:nvSpPr>
        <p:spPr>
          <a:xfrm>
            <a:off x="3583080" y="4284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73"/>
          <p:cNvSpPr/>
          <p:nvPr/>
        </p:nvSpPr>
        <p:spPr>
          <a:xfrm>
            <a:off x="1855800" y="4284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74"/>
          <p:cNvSpPr/>
          <p:nvPr/>
        </p:nvSpPr>
        <p:spPr>
          <a:xfrm>
            <a:off x="6823080" y="4284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8.2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4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5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5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7" name="Text Box 2"/>
          <p:cNvSpPr/>
          <p:nvPr/>
        </p:nvSpPr>
        <p:spPr>
          <a:xfrm>
            <a:off x="395280" y="1341360"/>
            <a:ext cx="84978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判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半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的圆，它的周长和面积相等。          （ 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一个圆的半径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它的直径也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周长也扩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面积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。                                               （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周长相等的两个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们的面积也一定相等。        （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一个边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米的正方形内截取一个最大的圆，这个圆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.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分米。                                          （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直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的半圆，它的周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。      （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4"/>
          <p:cNvSpPr/>
          <p:nvPr/>
        </p:nvSpPr>
        <p:spPr>
          <a:xfrm>
            <a:off x="7885080" y="1892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5"/>
          <p:cNvSpPr/>
          <p:nvPr/>
        </p:nvSpPr>
        <p:spPr>
          <a:xfrm>
            <a:off x="7859880" y="30448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Text Box 6"/>
          <p:cNvSpPr/>
          <p:nvPr/>
        </p:nvSpPr>
        <p:spPr>
          <a:xfrm>
            <a:off x="788508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Text Box 7"/>
          <p:cNvSpPr/>
          <p:nvPr/>
        </p:nvSpPr>
        <p:spPr>
          <a:xfrm>
            <a:off x="7956720" y="4700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Text Box 8"/>
          <p:cNvSpPr/>
          <p:nvPr/>
        </p:nvSpPr>
        <p:spPr>
          <a:xfrm>
            <a:off x="7885080" y="5276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6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7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7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1" name="Rectangle 12"/>
          <p:cNvSpPr/>
          <p:nvPr/>
        </p:nvSpPr>
        <p:spPr>
          <a:xfrm>
            <a:off x="395280" y="2162520"/>
            <a:ext cx="860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已知下图中正方形的面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圆的面积是多少平方厘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2" name="组合 17428"/>
          <p:cNvGrpSpPr/>
          <p:nvPr/>
        </p:nvGrpSpPr>
        <p:grpSpPr>
          <a:xfrm>
            <a:off x="538200" y="4797360"/>
            <a:ext cx="5256000" cy="786600"/>
            <a:chOff x="538200" y="4797360"/>
            <a:chExt cx="5256000" cy="786600"/>
          </a:xfrm>
        </p:grpSpPr>
        <p:sp>
          <p:nvSpPr>
            <p:cNvPr id="2883" name="Text Box 20"/>
            <p:cNvSpPr/>
            <p:nvPr/>
          </p:nvSpPr>
          <p:spPr>
            <a:xfrm>
              <a:off x="538200" y="494136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.14×20=62.8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m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Text Box 21"/>
            <p:cNvSpPr/>
            <p:nvPr/>
          </p:nvSpPr>
          <p:spPr>
            <a:xfrm>
              <a:off x="4641840" y="4797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3"/>
          <p:cNvGrpSpPr/>
          <p:nvPr/>
        </p:nvGrpSpPr>
        <p:grpSpPr>
          <a:xfrm>
            <a:off x="5796000" y="2852640"/>
            <a:ext cx="2736720" cy="2808000"/>
            <a:chOff x="5796000" y="2852640"/>
            <a:chExt cx="2736720" cy="2808000"/>
          </a:xfrm>
        </p:grpSpPr>
        <p:sp>
          <p:nvSpPr>
            <p:cNvPr id="2886" name="Rectangle 24"/>
            <p:cNvSpPr/>
            <p:nvPr/>
          </p:nvSpPr>
          <p:spPr>
            <a:xfrm>
              <a:off x="6588000" y="388692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 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25"/>
            <p:cNvSpPr/>
            <p:nvPr/>
          </p:nvSpPr>
          <p:spPr>
            <a:xfrm>
              <a:off x="5796000" y="2852640"/>
              <a:ext cx="2736720" cy="2808000"/>
            </a:xfrm>
            <a:prstGeom prst="ellipse">
              <a:avLst/>
            </a:prstGeom>
            <a:noFill/>
            <a:ln w="57240">
              <a:solidFill>
                <a:srgbClr val="0000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Rectangle 26"/>
            <p:cNvSpPr/>
            <p:nvPr/>
          </p:nvSpPr>
          <p:spPr>
            <a:xfrm>
              <a:off x="7091280" y="4183560"/>
              <a:ext cx="1440000" cy="1477080"/>
            </a:xfrm>
            <a:prstGeom prst="rect">
              <a:avLst/>
            </a:prstGeom>
            <a:noFill/>
            <a:ln w="57240">
              <a:solidFill>
                <a:srgbClr val="0000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9" name="Line 28"/>
          <p:cNvSpPr/>
          <p:nvPr/>
        </p:nvSpPr>
        <p:spPr>
          <a:xfrm>
            <a:off x="7054920" y="419724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29"/>
          <p:cNvSpPr/>
          <p:nvPr/>
        </p:nvSpPr>
        <p:spPr>
          <a:xfrm>
            <a:off x="7093080" y="422100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1" name="Group 50"/>
          <p:cNvGrpSpPr/>
          <p:nvPr/>
        </p:nvGrpSpPr>
        <p:grpSpPr>
          <a:xfrm>
            <a:off x="1864440" y="3645000"/>
            <a:ext cx="2490840" cy="1008360"/>
            <a:chOff x="1864440" y="3645000"/>
            <a:chExt cx="2490840" cy="1008360"/>
          </a:xfrm>
        </p:grpSpPr>
        <p:sp>
          <p:nvSpPr>
            <p:cNvPr id="2892" name="Text Box 31"/>
            <p:cNvSpPr/>
            <p:nvPr/>
          </p:nvSpPr>
          <p:spPr>
            <a:xfrm>
              <a:off x="1864440" y="3645000"/>
              <a:ext cx="59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33cc33"/>
                  </a:solidFill>
                  <a:latin typeface="Arial"/>
                </a:rPr>
                <a:t>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3" name="Group 49"/>
            <p:cNvGrpSpPr/>
            <p:nvPr/>
          </p:nvGrpSpPr>
          <p:grpSpPr>
            <a:xfrm>
              <a:off x="2266920" y="3781080"/>
              <a:ext cx="2088360" cy="828360"/>
              <a:chOff x="2266920" y="3781080"/>
              <a:chExt cx="2088360" cy="828360"/>
            </a:xfrm>
          </p:grpSpPr>
          <p:sp>
            <p:nvSpPr>
              <p:cNvPr id="2894" name="Text Box 34"/>
              <p:cNvSpPr/>
              <p:nvPr/>
            </p:nvSpPr>
            <p:spPr>
              <a:xfrm>
                <a:off x="2266920" y="37810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Text Box 39"/>
              <p:cNvSpPr/>
              <p:nvPr/>
            </p:nvSpPr>
            <p:spPr>
              <a:xfrm>
                <a:off x="2482560" y="3784320"/>
                <a:ext cx="1872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33cc33"/>
                    </a:solidFill>
                    <a:latin typeface="Arial"/>
                  </a:rPr>
                  <a:t>=20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9" name="Text Box 29" descr=""/>
          <p:cNvPicPr/>
          <p:nvPr/>
        </p:nvPicPr>
        <p:blipFill>
          <a:blip r:embed="rId1"/>
          <a:stretch/>
        </p:blipFill>
        <p:spPr>
          <a:xfrm>
            <a:off x="285840" y="206064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2910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2911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2912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3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2"/>
          <p:cNvGrpSpPr/>
          <p:nvPr/>
        </p:nvGrpSpPr>
        <p:grpSpPr>
          <a:xfrm>
            <a:off x="428760" y="857160"/>
            <a:ext cx="6842160" cy="1080720"/>
            <a:chOff x="428760" y="857160"/>
            <a:chExt cx="6842160" cy="1080720"/>
          </a:xfrm>
        </p:grpSpPr>
        <p:sp>
          <p:nvSpPr>
            <p:cNvPr id="2497" name="Oval 3"/>
            <p:cNvSpPr/>
            <p:nvPr/>
          </p:nvSpPr>
          <p:spPr>
            <a:xfrm>
              <a:off x="42876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Oval 4"/>
            <p:cNvSpPr/>
            <p:nvPr/>
          </p:nvSpPr>
          <p:spPr>
            <a:xfrm>
              <a:off x="140652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5"/>
            <p:cNvSpPr/>
            <p:nvPr/>
          </p:nvSpPr>
          <p:spPr>
            <a:xfrm>
              <a:off x="194148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6"/>
            <p:cNvSpPr/>
            <p:nvPr/>
          </p:nvSpPr>
          <p:spPr>
            <a:xfrm>
              <a:off x="240516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7"/>
            <p:cNvSpPr/>
            <p:nvPr/>
          </p:nvSpPr>
          <p:spPr>
            <a:xfrm>
              <a:off x="312912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8"/>
            <p:cNvSpPr/>
            <p:nvPr/>
          </p:nvSpPr>
          <p:spPr>
            <a:xfrm>
              <a:off x="355608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9"/>
            <p:cNvSpPr/>
            <p:nvPr/>
          </p:nvSpPr>
          <p:spPr>
            <a:xfrm>
              <a:off x="407016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10"/>
            <p:cNvSpPr/>
            <p:nvPr/>
          </p:nvSpPr>
          <p:spPr>
            <a:xfrm>
              <a:off x="439272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Oval 11"/>
            <p:cNvSpPr/>
            <p:nvPr/>
          </p:nvSpPr>
          <p:spPr>
            <a:xfrm>
              <a:off x="489276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Oval 12"/>
            <p:cNvSpPr/>
            <p:nvPr/>
          </p:nvSpPr>
          <p:spPr>
            <a:xfrm>
              <a:off x="536112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Oval 13"/>
            <p:cNvSpPr/>
            <p:nvPr/>
          </p:nvSpPr>
          <p:spPr>
            <a:xfrm>
              <a:off x="606600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Oval 14"/>
            <p:cNvSpPr/>
            <p:nvPr/>
          </p:nvSpPr>
          <p:spPr>
            <a:xfrm>
              <a:off x="686016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4" name="Picture 6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2515" name="Text Box 10"/>
          <p:cNvSpPr/>
          <p:nvPr/>
        </p:nvSpPr>
        <p:spPr>
          <a:xfrm>
            <a:off x="3741840" y="558972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圆是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曲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围成的一种平面图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矩形 24"/>
          <p:cNvSpPr/>
          <p:nvPr/>
        </p:nvSpPr>
        <p:spPr>
          <a:xfrm>
            <a:off x="1814400" y="1628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认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1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3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3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5" name="Picture 3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536" name="Text Box 4"/>
          <p:cNvSpPr/>
          <p:nvPr/>
        </p:nvSpPr>
        <p:spPr>
          <a:xfrm>
            <a:off x="3095640" y="321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 Box 5"/>
          <p:cNvSpPr/>
          <p:nvPr/>
        </p:nvSpPr>
        <p:spPr>
          <a:xfrm>
            <a:off x="2751840" y="2692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直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 Box 6"/>
          <p:cNvSpPr/>
          <p:nvPr/>
        </p:nvSpPr>
        <p:spPr>
          <a:xfrm>
            <a:off x="3671280" y="263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9" name="Picture 7" descr=""/>
          <p:cNvPicPr/>
          <p:nvPr/>
        </p:nvPicPr>
        <p:blipFill>
          <a:blip r:embed="rId3"/>
          <a:stretch/>
        </p:blipFill>
        <p:spPr>
          <a:xfrm>
            <a:off x="5148360" y="226044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540" name="Text Box 8"/>
          <p:cNvSpPr/>
          <p:nvPr/>
        </p:nvSpPr>
        <p:spPr>
          <a:xfrm>
            <a:off x="5798520" y="3141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9"/>
          <p:cNvSpPr/>
          <p:nvPr/>
        </p:nvSpPr>
        <p:spPr>
          <a:xfrm>
            <a:off x="536652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10"/>
          <p:cNvSpPr/>
          <p:nvPr/>
        </p:nvSpPr>
        <p:spPr>
          <a:xfrm>
            <a:off x="6445800" y="27082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11"/>
          <p:cNvSpPr/>
          <p:nvPr/>
        </p:nvSpPr>
        <p:spPr>
          <a:xfrm>
            <a:off x="3178800" y="439272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画圆时，固定的点是（       ），一般用字母（        ）表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12"/>
          <p:cNvSpPr/>
          <p:nvPr/>
        </p:nvSpPr>
        <p:spPr>
          <a:xfrm>
            <a:off x="2046960" y="4750200"/>
            <a:ext cx="48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心到圆上任何一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都是半径，半径用字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所有半径的长度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13"/>
          <p:cNvSpPr/>
          <p:nvPr/>
        </p:nvSpPr>
        <p:spPr>
          <a:xfrm>
            <a:off x="1404720" y="5500440"/>
            <a:ext cx="61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且两端都在圆上的线段是直径，直径用字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所有直径的长度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Rectangle 14"/>
          <p:cNvSpPr/>
          <p:nvPr/>
        </p:nvSpPr>
        <p:spPr>
          <a:xfrm>
            <a:off x="3691080" y="4765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线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15"/>
          <p:cNvSpPr/>
          <p:nvPr/>
        </p:nvSpPr>
        <p:spPr>
          <a:xfrm>
            <a:off x="4266360" y="5086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Text Box 17"/>
          <p:cNvSpPr/>
          <p:nvPr/>
        </p:nvSpPr>
        <p:spPr>
          <a:xfrm>
            <a:off x="3499560" y="436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18"/>
          <p:cNvSpPr/>
          <p:nvPr/>
        </p:nvSpPr>
        <p:spPr>
          <a:xfrm>
            <a:off x="6086520" y="4365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19"/>
          <p:cNvSpPr/>
          <p:nvPr/>
        </p:nvSpPr>
        <p:spPr>
          <a:xfrm>
            <a:off x="7098120" y="46926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20"/>
          <p:cNvSpPr/>
          <p:nvPr/>
        </p:nvSpPr>
        <p:spPr>
          <a:xfrm>
            <a:off x="1602720" y="5484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21"/>
          <p:cNvSpPr/>
          <p:nvPr/>
        </p:nvSpPr>
        <p:spPr>
          <a:xfrm>
            <a:off x="7328880" y="5484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22"/>
          <p:cNvSpPr/>
          <p:nvPr/>
        </p:nvSpPr>
        <p:spPr>
          <a:xfrm>
            <a:off x="4175280" y="5845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矩形 39"/>
          <p:cNvSpPr/>
          <p:nvPr/>
        </p:nvSpPr>
        <p:spPr>
          <a:xfrm>
            <a:off x="1274040" y="1484280"/>
            <a:ext cx="1887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各部分的认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5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6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7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3" name="Picture 2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359080" cy="2360520"/>
          </a:xfrm>
          <a:prstGeom prst="rect">
            <a:avLst/>
          </a:prstGeom>
          <a:ln w="0">
            <a:noFill/>
          </a:ln>
        </p:spPr>
      </p:pic>
      <p:sp>
        <p:nvSpPr>
          <p:cNvPr id="2574" name="Text Box 7"/>
          <p:cNvSpPr/>
          <p:nvPr/>
        </p:nvSpPr>
        <p:spPr>
          <a:xfrm>
            <a:off x="3359160" y="4197240"/>
            <a:ext cx="234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中，直径是半径的（          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半径是直径的（  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8"/>
          <p:cNvSpPr/>
          <p:nvPr/>
        </p:nvSpPr>
        <p:spPr>
          <a:xfrm>
            <a:off x="2192400" y="513396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=2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对象 7190" descr=""/>
          <p:cNvPicPr/>
          <p:nvPr/>
        </p:nvPicPr>
        <p:blipFill>
          <a:blip r:embed="rId3"/>
          <a:stretch/>
        </p:blipFill>
        <p:spPr>
          <a:xfrm>
            <a:off x="5072040" y="4765680"/>
            <a:ext cx="1166760" cy="1204920"/>
          </a:xfrm>
          <a:prstGeom prst="rect">
            <a:avLst/>
          </a:prstGeom>
          <a:ln w="0">
            <a:noFill/>
          </a:ln>
        </p:spPr>
      </p:pic>
      <p:sp>
        <p:nvSpPr>
          <p:cNvPr id="2577" name="Text Box 10"/>
          <p:cNvSpPr/>
          <p:nvPr/>
        </p:nvSpPr>
        <p:spPr>
          <a:xfrm>
            <a:off x="6620040" y="41497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1"/>
          <p:cNvSpPr/>
          <p:nvPr/>
        </p:nvSpPr>
        <p:spPr>
          <a:xfrm>
            <a:off x="3622680" y="4533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矩形 27"/>
          <p:cNvSpPr/>
          <p:nvPr/>
        </p:nvSpPr>
        <p:spPr>
          <a:xfrm>
            <a:off x="1862280" y="1773360"/>
            <a:ext cx="2131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径与直径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8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3" name="Picture 2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206520" cy="2565360"/>
          </a:xfrm>
          <a:prstGeom prst="rect">
            <a:avLst/>
          </a:prstGeom>
          <a:ln w="0">
            <a:noFill/>
          </a:ln>
        </p:spPr>
      </p:pic>
      <p:sp>
        <p:nvSpPr>
          <p:cNvPr id="2594" name="Text Box 3"/>
          <p:cNvSpPr/>
          <p:nvPr/>
        </p:nvSpPr>
        <p:spPr>
          <a:xfrm>
            <a:off x="1821240" y="4508640"/>
            <a:ext cx="52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每条直径所在的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都是圆的对称轴。所以圆的对称轴有（     ）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696960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无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矩形 22"/>
          <p:cNvSpPr/>
          <p:nvPr/>
        </p:nvSpPr>
        <p:spPr>
          <a:xfrm>
            <a:off x="1093680" y="1844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9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99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2" name="Group 2"/>
          <p:cNvGrpSpPr/>
          <p:nvPr/>
        </p:nvGrpSpPr>
        <p:grpSpPr>
          <a:xfrm>
            <a:off x="250920" y="836640"/>
            <a:ext cx="6842160" cy="1080720"/>
            <a:chOff x="250920" y="836640"/>
            <a:chExt cx="6842160" cy="1080720"/>
          </a:xfrm>
        </p:grpSpPr>
        <p:sp>
          <p:nvSpPr>
            <p:cNvPr id="2603" name="Oval 3"/>
            <p:cNvSpPr/>
            <p:nvPr/>
          </p:nvSpPr>
          <p:spPr>
            <a:xfrm>
              <a:off x="250920" y="98244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Oval 4"/>
            <p:cNvSpPr/>
            <p:nvPr/>
          </p:nvSpPr>
          <p:spPr>
            <a:xfrm>
              <a:off x="1228680" y="97596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Oval 5"/>
            <p:cNvSpPr/>
            <p:nvPr/>
          </p:nvSpPr>
          <p:spPr>
            <a:xfrm>
              <a:off x="1763640" y="92412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Oval 6"/>
            <p:cNvSpPr/>
            <p:nvPr/>
          </p:nvSpPr>
          <p:spPr>
            <a:xfrm>
              <a:off x="2227320" y="92412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7"/>
            <p:cNvSpPr/>
            <p:nvPr/>
          </p:nvSpPr>
          <p:spPr>
            <a:xfrm>
              <a:off x="2951280" y="92412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8"/>
            <p:cNvSpPr/>
            <p:nvPr/>
          </p:nvSpPr>
          <p:spPr>
            <a:xfrm>
              <a:off x="3378240" y="836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9"/>
            <p:cNvSpPr/>
            <p:nvPr/>
          </p:nvSpPr>
          <p:spPr>
            <a:xfrm>
              <a:off x="3892320" y="9241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10"/>
            <p:cNvSpPr/>
            <p:nvPr/>
          </p:nvSpPr>
          <p:spPr>
            <a:xfrm>
              <a:off x="4214880" y="83664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11"/>
            <p:cNvSpPr/>
            <p:nvPr/>
          </p:nvSpPr>
          <p:spPr>
            <a:xfrm>
              <a:off x="4714920" y="100656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Oval 12"/>
            <p:cNvSpPr/>
            <p:nvPr/>
          </p:nvSpPr>
          <p:spPr>
            <a:xfrm>
              <a:off x="5183280" y="92412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Oval 13"/>
            <p:cNvSpPr/>
            <p:nvPr/>
          </p:nvSpPr>
          <p:spPr>
            <a:xfrm>
              <a:off x="5888160" y="836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4"/>
            <p:cNvSpPr/>
            <p:nvPr/>
          </p:nvSpPr>
          <p:spPr>
            <a:xfrm>
              <a:off x="6682320" y="92412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5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2616" name="Text Box 3"/>
          <p:cNvSpPr/>
          <p:nvPr/>
        </p:nvSpPr>
        <p:spPr>
          <a:xfrm>
            <a:off x="1699200" y="5445000"/>
            <a:ext cx="60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圆也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半圆的对称轴有（     ）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4"/>
          <p:cNvSpPr/>
          <p:nvPr/>
        </p:nvSpPr>
        <p:spPr>
          <a:xfrm>
            <a:off x="7669080" y="54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1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20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2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6" name="Text Box 2"/>
          <p:cNvSpPr/>
          <p:nvPr/>
        </p:nvSpPr>
        <p:spPr>
          <a:xfrm>
            <a:off x="1796760" y="522936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圆心角的两条（       ）和圆心角所对的（     ）围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图形，叫做扇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7" name="Picture 3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600360" cy="3589200"/>
          </a:xfrm>
          <a:prstGeom prst="rect">
            <a:avLst/>
          </a:prstGeom>
          <a:ln w="0">
            <a:noFill/>
          </a:ln>
        </p:spPr>
      </p:pic>
      <p:sp>
        <p:nvSpPr>
          <p:cNvPr id="2638" name="Rectangle 4"/>
          <p:cNvSpPr/>
          <p:nvPr/>
        </p:nvSpPr>
        <p:spPr>
          <a:xfrm>
            <a:off x="6661440" y="24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5"/>
          <p:cNvSpPr/>
          <p:nvPr/>
        </p:nvSpPr>
        <p:spPr>
          <a:xfrm>
            <a:off x="33494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圆心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6"/>
          <p:cNvSpPr/>
          <p:nvPr/>
        </p:nvSpPr>
        <p:spPr>
          <a:xfrm>
            <a:off x="464616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7"/>
          <p:cNvSpPr/>
          <p:nvPr/>
        </p:nvSpPr>
        <p:spPr>
          <a:xfrm>
            <a:off x="4573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8"/>
          <p:cNvSpPr/>
          <p:nvPr/>
        </p:nvSpPr>
        <p:spPr>
          <a:xfrm>
            <a:off x="3276000" y="5227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9"/>
          <p:cNvSpPr/>
          <p:nvPr/>
        </p:nvSpPr>
        <p:spPr>
          <a:xfrm>
            <a:off x="7237800" y="530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矩形 27"/>
          <p:cNvSpPr/>
          <p:nvPr/>
        </p:nvSpPr>
        <p:spPr>
          <a:xfrm>
            <a:off x="925200" y="1844640"/>
            <a:ext cx="668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4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47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5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3" name="Text Box 2"/>
          <p:cNvSpPr/>
          <p:nvPr/>
        </p:nvSpPr>
        <p:spPr>
          <a:xfrm>
            <a:off x="3205800" y="39862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圆的周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圆周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4" name="Picture 3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665" name="Rectangle 4"/>
          <p:cNvSpPr/>
          <p:nvPr/>
        </p:nvSpPr>
        <p:spPr>
          <a:xfrm>
            <a:off x="5572800" y="433404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Rectangle 5"/>
          <p:cNvSpPr/>
          <p:nvPr/>
        </p:nvSpPr>
        <p:spPr>
          <a:xfrm>
            <a:off x="3204720" y="4286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Rectangle 6"/>
          <p:cNvSpPr/>
          <p:nvPr/>
        </p:nvSpPr>
        <p:spPr>
          <a:xfrm>
            <a:off x="4504320" y="434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7"/>
          <p:cNvSpPr/>
          <p:nvPr/>
        </p:nvSpPr>
        <p:spPr>
          <a:xfrm>
            <a:off x="2348640" y="508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=π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 Box 8"/>
          <p:cNvSpPr/>
          <p:nvPr/>
        </p:nvSpPr>
        <p:spPr>
          <a:xfrm>
            <a:off x="2490840" y="56610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=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9"/>
          <p:cNvSpPr/>
          <p:nvPr/>
        </p:nvSpPr>
        <p:spPr>
          <a:xfrm>
            <a:off x="5228640" y="501336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=2π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Rectangle 11"/>
          <p:cNvSpPr/>
          <p:nvPr/>
        </p:nvSpPr>
        <p:spPr>
          <a:xfrm>
            <a:off x="5156640" y="55897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π≈3.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矩形 29"/>
          <p:cNvSpPr/>
          <p:nvPr/>
        </p:nvSpPr>
        <p:spPr>
          <a:xfrm>
            <a:off x="1093680" y="1844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周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3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74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75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7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7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1" name="Picture 2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6553440" cy="1905120"/>
          </a:xfrm>
          <a:prstGeom prst="rect">
            <a:avLst/>
          </a:prstGeom>
          <a:ln w="0">
            <a:noFill/>
          </a:ln>
        </p:spPr>
      </p:pic>
      <p:sp>
        <p:nvSpPr>
          <p:cNvPr id="2692" name="Rectangle 3"/>
          <p:cNvSpPr/>
          <p:nvPr/>
        </p:nvSpPr>
        <p:spPr>
          <a:xfrm>
            <a:off x="250920" y="34290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圆沿着它的半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成若干等份，剪开后可以拼成一个近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平行四边形，这个平行四边形的底相当于圆周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高相当于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圆的面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 _____×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Rectangle 4"/>
          <p:cNvSpPr/>
          <p:nvPr/>
        </p:nvSpPr>
        <p:spPr>
          <a:xfrm>
            <a:off x="2886840" y="501336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_____×_____×_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Rectangle 5"/>
          <p:cNvSpPr/>
          <p:nvPr/>
        </p:nvSpPr>
        <p:spPr>
          <a:xfrm>
            <a:off x="1010520" y="5732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_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6"/>
          <p:cNvSpPr/>
          <p:nvPr/>
        </p:nvSpPr>
        <p:spPr>
          <a:xfrm>
            <a:off x="745704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7"/>
          <p:cNvSpPr/>
          <p:nvPr/>
        </p:nvSpPr>
        <p:spPr>
          <a:xfrm>
            <a:off x="5209560" y="4076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半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7" name="对象 12308" descr=""/>
          <p:cNvPicPr/>
          <p:nvPr/>
        </p:nvPicPr>
        <p:blipFill>
          <a:blip r:embed="rId2"/>
          <a:stretch/>
        </p:blipFill>
        <p:spPr>
          <a:xfrm>
            <a:off x="2266920" y="4005360"/>
            <a:ext cx="793800" cy="718920"/>
          </a:xfrm>
          <a:prstGeom prst="rect">
            <a:avLst/>
          </a:prstGeom>
          <a:ln w="0">
            <a:noFill/>
          </a:ln>
        </p:spPr>
      </p:pic>
      <p:sp>
        <p:nvSpPr>
          <p:cNvPr id="2698" name="Text Box 9"/>
          <p:cNvSpPr/>
          <p:nvPr/>
        </p:nvSpPr>
        <p:spPr>
          <a:xfrm>
            <a:off x="8173800" y="4149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9" name="对象 12310" descr=""/>
          <p:cNvPicPr/>
          <p:nvPr/>
        </p:nvPicPr>
        <p:blipFill>
          <a:blip r:embed="rId3"/>
          <a:stretch/>
        </p:blipFill>
        <p:spPr>
          <a:xfrm>
            <a:off x="1744560" y="4829040"/>
            <a:ext cx="793800" cy="717840"/>
          </a:xfrm>
          <a:prstGeom prst="rect">
            <a:avLst/>
          </a:prstGeom>
          <a:ln w="0">
            <a:noFill/>
          </a:ln>
        </p:spPr>
      </p:pic>
      <p:sp>
        <p:nvSpPr>
          <p:cNvPr id="2700" name="Text Box 11"/>
          <p:cNvSpPr/>
          <p:nvPr/>
        </p:nvSpPr>
        <p:spPr>
          <a:xfrm>
            <a:off x="2989080" y="4941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1" name="对象 12312" descr=""/>
          <p:cNvPicPr/>
          <p:nvPr/>
        </p:nvPicPr>
        <p:blipFill>
          <a:blip r:embed="rId4"/>
          <a:stretch/>
        </p:blipFill>
        <p:spPr>
          <a:xfrm>
            <a:off x="4498920" y="4799160"/>
            <a:ext cx="457200" cy="699840"/>
          </a:xfrm>
          <a:prstGeom prst="rect">
            <a:avLst/>
          </a:prstGeom>
          <a:ln w="0">
            <a:noFill/>
          </a:ln>
        </p:spPr>
      </p:pic>
      <p:sp>
        <p:nvSpPr>
          <p:cNvPr id="2702" name="Text Box 13"/>
          <p:cNvSpPr/>
          <p:nvPr/>
        </p:nvSpPr>
        <p:spPr>
          <a:xfrm>
            <a:off x="5834520" y="5013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π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Text Box 14"/>
          <p:cNvSpPr/>
          <p:nvPr/>
        </p:nvSpPr>
        <p:spPr>
          <a:xfrm>
            <a:off x="7597800" y="4941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5"/>
          <p:cNvSpPr/>
          <p:nvPr/>
        </p:nvSpPr>
        <p:spPr>
          <a:xfrm>
            <a:off x="1889640" y="5661000"/>
            <a:ext cx="7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6"/>
          <p:cNvSpPr/>
          <p:nvPr/>
        </p:nvSpPr>
        <p:spPr>
          <a:xfrm>
            <a:off x="554400" y="2708280"/>
            <a:ext cx="15645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=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矩形 35"/>
          <p:cNvSpPr/>
          <p:nvPr/>
        </p:nvSpPr>
        <p:spPr>
          <a:xfrm>
            <a:off x="734040" y="2060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0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09" name="五边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0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